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8B3-F299-4A8E-B3EE-22FD8F08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3A7-8479-444E-AA21-989FA0DC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698-4C16-43D5-B5D2-EBA6FA5E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70B-D99D-4B17-AE93-11D33A5B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D31F-0071-4704-9CBB-0D2C074C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4D1C-EB37-4D43-A8B4-54266935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D13F-888C-4C29-9FFA-31B0D697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3FBD-B8A6-4C7D-AE5F-5E87D918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EDE2-ED68-4F83-955F-4D876A44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1FC3-DFCA-4D52-8592-4BA5F0F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33B1-67C9-4BB6-8914-71EDC2D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B7E-6E8C-4E10-B893-DC5489E1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B8E2-B73A-464A-8DAB-9E142FC7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FFFD-374F-45AA-8B82-25FED956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F1E3-0683-4DBD-84BE-243A113F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7E61-D8CD-4558-8AB8-0E3FE46C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8FDC-6C3A-476E-AB53-B495CACA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6124-2EB6-4BBB-A60B-3778444A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C177-D54C-4CE5-9DC8-CCD267D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AD9B-9F46-4512-93E4-AAF032BE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498B-7800-4F80-BC77-2514FB77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D49A8-33D3-4FA4-94D1-CB715792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2A6-6B8F-4C41-92FE-CB70C8B3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564C-0581-4659-B26D-1EE7555B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48A4-BC0D-4BDA-B04E-E3BB6D81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C790-AED3-411D-B8B5-5F9F1E20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F252-43DC-47BF-A9EB-719976B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E429-AF3E-45F8-8D24-50624E1B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21E4-002B-4093-8E6F-80620A61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8DA9-18F3-4592-849C-32DBEC7D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D1EB-0009-4717-BBA1-31875ED2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30886-27F9-40AC-9A1E-9DD7B9BF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79C4-CBBB-4C96-A3F6-A26D35AB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470-9BCD-489C-945C-49977017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9289E-7425-46A0-B498-E13958A4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A053-2EF0-452C-8D05-0C0231EC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5672D-4196-434F-9BC6-1255FDED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243D-0112-433F-94DE-A776966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5A5F-4C83-4BF8-8DBA-97A3874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DE73-5B44-4FE3-9DEF-65B71316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7089-7B04-4B6A-929C-A0378937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4046E-6C1F-469C-9518-97C46A48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70CC-B7A7-4955-84B0-02124D4F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D844F-4D98-49C5-ABC4-3FC14367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998-3C29-4478-B07E-75223E9C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9DAB-A630-44CD-AC9F-92AD5401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F246F-AB3F-436E-91F6-9F6C4502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8BA85-D4B5-4B7C-8D8B-8F4FC1B9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6B8F-9012-49B5-B114-13EB0F6F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926D1-FB11-4D3E-BCFC-1E5BDCF7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8EF9-82EE-4A88-BF9F-53893A9E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CDBBC-3F90-454E-A74E-D2F64F9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44A46-2B35-4AF3-8132-05314473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6FA25-6D15-484E-A30F-57D34B5A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87964-0138-4316-BC76-34E07C8D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6D7-2D59-4AF6-91A3-B8705D50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8EAF8-4963-4261-A161-19A10A88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CAB14-CDD5-4FA7-B5CD-0ACCD1D1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3082-D08C-4C91-8BED-4135BAD2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6D09-93A1-4F2E-A58D-F080DA0A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54776-FC28-4883-BF28-5627D1AB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9174-E2A5-4045-93DD-008E3F11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228E7-A46F-4AFA-967C-36C6B11F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17D99-03AC-4108-9E12-329E0787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78CB-C3E4-43DA-B456-B6A99B60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AD654-8AF1-4892-A9AE-4A0F674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FFE-290D-40B3-A37C-18CD14BD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75414-C430-434E-8349-9680C772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CF64E-F2DB-4A2E-8605-10D21BAE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31018-DCB1-4606-9542-9B82E7D2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928F0-B471-4AAF-97DD-11A2E3F3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892FF-967B-4A5E-BD99-5C91B8A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205A5-D6DF-4B3F-9DCA-897C877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A9728-7FDD-491D-9E92-36AF9757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4BCEE-7400-4EFD-B6BF-9A5CCD77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322BF-F1BD-40D2-A558-A73A093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5DD63-989A-4F4B-B7F6-534F12F9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FD8-70BD-446F-88C1-A69714D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81A1D-D311-408F-9794-5E68D1A5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D2310-0889-4141-A8AF-3E6D9EA2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66A19-922B-46AA-AA95-373E87DD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B714-1E65-4182-859D-7DE174BF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A40F-894B-4B4F-992C-664E030F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D4083-E220-4323-B60D-85240F4D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E7C8-9A46-4DA0-A789-9D1EA807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C9335-5672-4637-B622-79A099D2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4728D-144A-4A8C-85C5-8691AC2B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CF17E-0608-4DBA-B2A8-8251877E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87F-6B8E-4DCE-AEB5-B4C18165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11239-D247-4F7B-B0AA-88C7AED9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61362-24A4-4787-955D-4DDAD1C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1DDB-EB7F-4842-90AE-15A75D0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5DB67-A10F-4E66-88EC-D448B38C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DED1E-E637-496A-86D1-479AFBFE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66898-817C-4558-8B9F-2FE6D4AA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A071F-3ED5-453A-A613-6C26930A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CBA0-99DE-40CF-B826-29BFF1FF70FE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8A37-2AB4-4CA3-AE7A-A4D1F4A07503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7550-75CD-465F-892D-8B07BB98823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F8DC-143D-4451-8FB0-1FF309E84149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9B23-6EA0-48B8-993A-08A6A9945BDA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28D2-A78D-48DF-B7F4-F7F27DC1DD2C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95E9-1E39-47B1-9C08-DFED7278406D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1869-AE70-453B-B1FC-BC3CE921D093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es.wikipedia.org/wiki/1936" TargetMode="External"/><Relationship Id="rId3" Type="http://schemas.openxmlformats.org/officeDocument/2006/relationships/hyperlink" Target="http://es.wikipedia.org/wiki/Alemania_Nazi" TargetMode="External"/><Relationship Id="rId4" Type="http://schemas.openxmlformats.org/officeDocument/2006/relationships/hyperlink" Target="http://es.wikipedia.org/wiki/Alemania_Nazi" TargetMode="External"/><Relationship Id="rId5" Type="http://schemas.openxmlformats.org/officeDocument/2006/relationships/hyperlink" Target="http://es.wikipedia.org/wiki/Alemania_Nazi" TargetMode="External"/><Relationship Id="rId6" Type="http://schemas.openxmlformats.org/officeDocument/2006/relationships/hyperlink" Target="http://es.wikipedia.org/wiki/Adolf_Hitler" TargetMode="External"/><Relationship Id="rId7" Type="http://schemas.openxmlformats.org/officeDocument/2006/relationships/hyperlink" Target="http://es.wikipedia.org/wiki/Arca_de_la_Alianza" TargetMode="External"/><Relationship Id="rId8" Type="http://schemas.openxmlformats.org/officeDocument/2006/relationships/hyperlink" Target="http://es.wikipedia.org/wiki/Arca_de_la_Alianza" TargetMode="External"/><Relationship Id="rId9" Type="http://schemas.openxmlformats.org/officeDocument/2006/relationships/hyperlink" Target="http://es.wikipedia.org/wiki/Diez_mandamientos" TargetMode="External"/><Relationship Id="rId10" Type="http://schemas.openxmlformats.org/officeDocument/2006/relationships/hyperlink" Target="http://es.wikipedia.org/wiki/Diez_mandamientos" TargetMode="External"/><Relationship Id="rId11" Type="http://schemas.openxmlformats.org/officeDocument/2006/relationships/hyperlink" Target="http://es.wikipedia.org/wiki/Leyenda" TargetMode="External"/><Relationship Id="rId12" Type="http://schemas.openxmlformats.org/officeDocument/2006/relationships/hyperlink" Target="http://es.wikipedia.org/wiki/Ej&#233;rcito" TargetMode="External"/><Relationship Id="rId13" Type="http://schemas.openxmlformats.org/officeDocument/2006/relationships/hyperlink" Target="http://es.wikipedia.org/wiki/Pol&#237;tica_de_los_Estados_Unidos" TargetMode="External"/><Relationship Id="rId14" Type="http://schemas.openxmlformats.org/officeDocument/2006/relationships/hyperlink" Target="http://es.wikipedia.org/wiki/Arqueolog&#237;a" TargetMode="External"/><Relationship Id="rId15" Type="http://schemas.openxmlformats.org/officeDocument/2006/relationships/hyperlink" Target="http://es.wikipedia.org/wiki/Nueva_Inglaterra" TargetMode="External"/><Relationship Id="rId16" Type="http://schemas.openxmlformats.org/officeDocument/2006/relationships/hyperlink" Target="http://es.wikipedia.org/wiki/Expedici&#243;n" TargetMode="External"/><Relationship Id="rId17" Type="http://schemas.openxmlformats.org/officeDocument/2006/relationships/hyperlink" Target="http://es.wikipedia.org/wiki/&#205;dolo" TargetMode="External"/><Relationship Id="rId18" Type="http://schemas.openxmlformats.org/officeDocument/2006/relationships/hyperlink" Target="http://es.wikipedia.org/wiki/Jungla" TargetMode="External"/><Relationship Id="rId19" Type="http://schemas.openxmlformats.org/officeDocument/2006/relationships/hyperlink" Target="http://es.wikipedia.org/wiki/Sudam&#233;rica" TargetMode="External"/><Relationship Id="rId20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es.wikipedia.org/wiki/Don_Chaffey" TargetMode="External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2 Título" descr=""/>
          <p:cNvPicPr/>
          <p:nvPr/>
        </p:nvPicPr>
        <p:blipFill>
          <a:blip r:embed="rId1"/>
          <a:stretch/>
        </p:blipFill>
        <p:spPr>
          <a:xfrm>
            <a:off x="566640" y="177948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5 Marcador de contenido" descr="fnxcfnfn.png"/>
          <p:cNvPicPr/>
          <p:nvPr/>
        </p:nvPicPr>
        <p:blipFill>
          <a:blip r:embed="rId1"/>
          <a:stretch/>
        </p:blipFill>
        <p:spPr>
          <a:xfrm>
            <a:off x="1357200" y="1214280"/>
            <a:ext cx="6715080" cy="4870440"/>
          </a:xfrm>
          <a:prstGeom prst="rect">
            <a:avLst/>
          </a:prstGeom>
          <a:ln w="0">
            <a:noFill/>
          </a:ln>
        </p:spPr>
      </p:pic>
      <p:pic>
        <p:nvPicPr>
          <p:cNvPr id="386" name="6 Título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3 Marcador de contenido" descr="fgnfndfn.png"/>
          <p:cNvPicPr/>
          <p:nvPr/>
        </p:nvPicPr>
        <p:blipFill>
          <a:blip r:embed="rId1"/>
          <a:stretch/>
        </p:blipFill>
        <p:spPr>
          <a:xfrm>
            <a:off x="785880" y="1500120"/>
            <a:ext cx="6786360" cy="4143600"/>
          </a:xfrm>
          <a:prstGeom prst="rect">
            <a:avLst/>
          </a:prstGeom>
          <a:ln w="0">
            <a:noFill/>
          </a:ln>
        </p:spPr>
      </p:pic>
      <p:pic>
        <p:nvPicPr>
          <p:cNvPr id="388" name="2 Título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6 Marcador de contenido" descr="Indiana1.jpg"/>
          <p:cNvPicPr/>
          <p:nvPr/>
        </p:nvPicPr>
        <p:blipFill>
          <a:blip r:embed="rId1"/>
          <a:stretch/>
        </p:blipFill>
        <p:spPr>
          <a:xfrm>
            <a:off x="1092240" y="1444680"/>
            <a:ext cx="2770200" cy="3941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s una película de aventuras estadounidense dirigida  por Steven Spielberg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l guion fue escrito por Lawrence Kasdan, tras llevarse  a cabo una discusión de cuatro días en la cual  Spielberg, Lucas y él definieron los principales  elementos narrativos de la trama. El reparto estuvo  integrado por Harrison Ford, Karen Allen, Paul  Freeman, John Rhys-Davies y Denholm Elliott; el  rodaje fue realizado en Inglaterra, La Rochelle, Túnez,  Hawaii y California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La concepción de la película se originó cuando Lucas  decidió crear una versión moderna de los seriales de  los años 1930 y 1940. La trama describe la hazaña del  arqueólogo  Indiana al evitar que los nazis se vuelvan “ invencibles"; para impedirlo, debe encontrar l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legendaria Arca de la Alianza que las tropas, guiadas  por su enemigo René Belloq, están buscando  sigilosament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6 Marcador de contenido" descr="fsdgdhy.jpg"/>
          <p:cNvPicPr/>
          <p:nvPr/>
        </p:nvPicPr>
        <p:blipFill>
          <a:blip r:embed="rId1"/>
          <a:stretch/>
        </p:blipFill>
        <p:spPr>
          <a:xfrm>
            <a:off x="457200" y="2073240"/>
            <a:ext cx="4040280" cy="2684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La trama se desarrolla en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2"/>
              </a:rPr>
              <a:t>1936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. Mientras l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3"/>
              </a:rPr>
              <a:t>Alemania Nazi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continúa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4"/>
              </a:rPr>
              <a:t>expandiendo su reinado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5"/>
              </a:rPr>
              <a:t>de terror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6"/>
              </a:rPr>
              <a:t>Adolf Hitler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está inmerso en un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búsqueda para localizar la legendaria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7"/>
              </a:rPr>
              <a:t>Arca de l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8"/>
              </a:rPr>
              <a:t>Alianz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—en la que se hallan guardados los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9"/>
              </a:rPr>
              <a:t>diez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0"/>
              </a:rPr>
              <a:t>mandamientos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, cuyos poderes sobrenaturales, d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acuerdo a una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1"/>
              </a:rPr>
              <a:t>leyend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, pueden eliminar 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2"/>
              </a:rPr>
              <a:t>ejércitos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en su totalid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l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3"/>
              </a:rPr>
              <a:t>gobierno de los Estados Unidos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quier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contrar el Arca antes que Hitler y para ello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cide encontrarse con el Dr. Indiana Jones, un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profesor de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4"/>
              </a:rPr>
              <a:t>arqueologí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de una pequeñ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universidad en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5"/>
              </a:rPr>
              <a:t>Nueva Inglaterr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, quien acaba d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regresar de una fallida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6"/>
              </a:rPr>
              <a:t>expedición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que tenía como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objetivo el recuperar un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7"/>
              </a:rPr>
              <a:t>ídolo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sagrado de l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8"/>
              </a:rPr>
              <a:t>junglas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 de </a:t>
            </a:r>
            <a:r>
              <a:rPr b="0" lang="es-ES" sz="1200" spc="-1" strike="noStrike" u="sng">
                <a:solidFill>
                  <a:srgbClr val="17bbfd"/>
                </a:solidFill>
                <a:uFillTx/>
                <a:latin typeface="Lucida Sans Unicode"/>
                <a:hlinkClick r:id="rId19"/>
              </a:rPr>
              <a:t>Sudamérica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6 Marcador de contenido" descr="indiana-jones-en-busca-del-arca-perdida-cd2-avi_001197360.jpg"/>
          <p:cNvPicPr/>
          <p:nvPr/>
        </p:nvPicPr>
        <p:blipFill>
          <a:blip r:embed="rId1"/>
          <a:stretch/>
        </p:blipFill>
        <p:spPr>
          <a:xfrm>
            <a:off x="496800" y="2316240"/>
            <a:ext cx="3962520" cy="22003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643280" y="2285640"/>
            <a:ext cx="40420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Escenas inolvidables cómo el pozo de alma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(un lugar infestado de serpientes, dónd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literalmente para el rodaje había miles d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serpientes reales), la pelea con el gigantón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nazi bajo el avión en marcha o Marion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atrapada entre los cestos forman ya  parte d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la memoria colectiva</a:t>
            </a: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3 Marcador de contenido" descr="indiana-jones-en-busca-del-arca-perdida-cd2-avi_002754760.jpg"/>
          <p:cNvPicPr/>
          <p:nvPr/>
        </p:nvPicPr>
        <p:blipFill>
          <a:blip r:embed="rId1"/>
          <a:stretch/>
        </p:blipFill>
        <p:spPr>
          <a:xfrm>
            <a:off x="142920" y="1285920"/>
            <a:ext cx="8501040" cy="45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 Título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8 Marcador de contenido" descr="jason1.jpg"/>
          <p:cNvPicPr/>
          <p:nvPr/>
        </p:nvPicPr>
        <p:blipFill>
          <a:blip r:embed="rId1"/>
          <a:stretch/>
        </p:blipFill>
        <p:spPr>
          <a:xfrm>
            <a:off x="1163520" y="1509840"/>
            <a:ext cx="2629080" cy="3809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643280" y="1428480"/>
            <a:ext cx="40420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300" spc="-1" strike="noStrike">
                <a:solidFill>
                  <a:srgbClr val="000000"/>
                </a:solidFill>
                <a:latin typeface="Lucida Sans Unicode"/>
              </a:rPr>
              <a:t>Jasón y los argonauta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 es una películ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inglesa dirigida por </a:t>
            </a:r>
            <a:r>
              <a:rPr b="0" lang="es-ES" sz="1300" spc="-1" strike="noStrike" u="sng">
                <a:solidFill>
                  <a:srgbClr val="17bbfd"/>
                </a:solidFill>
                <a:uFillTx/>
                <a:latin typeface="Lucida Sans Unicode"/>
                <a:hlinkClick r:id="rId2"/>
              </a:rPr>
              <a:t>Don Chaffey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 en el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año de 1963. La idea original, sinopsis y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efectos especiales pertenecen a Ray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Harryhausen. A pesar de estar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considerado el mejor trabajo del artista,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y hasta hoy, el más rentable, en su dí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Jasón y los Argonautas recaudó muy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poco en taquilla. Harryhausen siempr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se ha apenado por no ser nominado al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óscar de efectos especiales en la que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muchos consideran una secuenci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cumbre de la historia del cine, el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enfrentamiento con los 7 esqueletos. L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película trata de alejarse de lo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parámetros del "péplum" con grande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dosis de aventuras y bestia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mitológicas, respetando fielmente la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leyenda y contando con excelentes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actore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8 Marcador de contenido" descr="dgdh.jpg"/>
          <p:cNvPicPr/>
          <p:nvPr/>
        </p:nvPicPr>
        <p:blipFill>
          <a:blip r:embed="rId1"/>
          <a:stretch/>
        </p:blipFill>
        <p:spPr>
          <a:xfrm>
            <a:off x="1316160" y="1444680"/>
            <a:ext cx="2322360" cy="39416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1640" y="1357200"/>
            <a:ext cx="40417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asón está destinado a ser Rey de Tesalia . Par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nseguirlo se hace pasar por noble y diciéndol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que el tirano se rendirá si encuentra el místico y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misterioso Vellocino de oro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asón ha de conseguir una muy buena tripulació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 la Cólquide son muy bien recibidos y Jasón s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amora de Medea, la hija del rey Aeetes.. En l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oscuridad de la noche, se escabullen y Jasón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unto con Castor y Peleo, se dirigen hacia e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Vellocino. El mágico artefacto esta protegido por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La Hydra de 7 cabezas. En ese momento Aeet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njura el poder de Hécate y, usando los dient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 la Hydra, invoca siete guerreros esqueleto d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terrible fuerza y agilidad. Tiene lugar un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impresionante batalla en la que Castor y Peleo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mueren. Finalmente Jasón se lanza al agua y lo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squeletos, en su persecución, caen y s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strozan contra el acantilado. La aventura no ha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terminado pero Zeus decide que les dará "un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momento de paz" al joven aventurero Jasón y su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argonauta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3 Marcador de contenido" descr="hfhhfghhh.png"/>
          <p:cNvPicPr/>
          <p:nvPr/>
        </p:nvPicPr>
        <p:blipFill>
          <a:blip r:embed="rId1"/>
          <a:stretch/>
        </p:blipFill>
        <p:spPr>
          <a:xfrm>
            <a:off x="1357200" y="1285920"/>
            <a:ext cx="6215040" cy="4429080"/>
          </a:xfrm>
          <a:prstGeom prst="rect">
            <a:avLst/>
          </a:prstGeom>
          <a:ln w="0">
            <a:noFill/>
          </a:ln>
        </p:spPr>
      </p:pic>
      <p:pic>
        <p:nvPicPr>
          <p:cNvPr id="384" name="4 Título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9:59:29Z</dcterms:created>
  <dc:creator>SiemprePensandoEnTí</dc:creator>
  <dc:description/>
  <dc:language>en-US</dc:language>
  <cp:lastModifiedBy>SiemprePensandoEnTí</cp:lastModifiedBy>
  <dcterms:modified xsi:type="dcterms:W3CDTF">2010-01-26T15:14:07Z</dcterms:modified>
  <cp:revision>15</cp:revision>
  <dc:subject/>
  <dc:title>Jasón y los argonautas </dc:title>
</cp:coreProperties>
</file>